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CB4-C80F-4235-9999-58C4F994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F3B-4D73-41C1-BE49-E5E27CB6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537-1F8D-4417-A4E1-2A7FAF9E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A8C-0B8C-432B-8AB5-D8C40FB0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FE82-1244-477A-BBEA-4CAE0539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05BF-FE06-403B-A09E-5E02AC0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A19B-CD11-4A1B-9E78-3DA73D34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3581-464B-4E81-A344-7B32F44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2B0D-97D7-4F2D-B0A3-8F7972C8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376-B0DC-455C-B04A-6372E91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F24-974D-4435-8C73-CFEFD61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E76-3019-4420-B0EF-18179AD4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1BEF-7F17-4700-893B-123956F3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8297-10AE-457C-A569-0913396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141F-0AAB-40DC-B004-D2C56AA1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A6C9-6988-4202-8B80-DA4F935D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DA26-ED0B-4C58-B2B9-43C7977B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4295-F41C-44F2-9C1F-7E915044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E1D7-0AC9-4E6D-B3A9-DD6074D4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6EDD-7E27-4D35-929D-33753BC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C130-EB7F-4B14-AEF5-F7ED8B4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2268-731D-4F06-AE3D-E9F99C2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0EB-A6FD-441E-A0E5-595788AF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A496-E94A-4F76-A134-2252BD74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782C-2D28-46D5-823D-764C5C2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0FB3-8B6F-4C32-A3AB-270E2262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A551-13BD-42D3-A3D7-F6DD12D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C2F0-DCC8-43E8-9F45-8E327ED9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FEA0-D9FB-4829-9E17-F4A2C59E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B3CE-0832-45F4-8120-A8B27B63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35AD-31FE-4452-A0D7-D3825948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C63A5-31EE-4CD0-82B8-A762188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48A0-A38C-4DA2-A39C-867A32BB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824-A4AD-4619-89A3-4EF710E5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1C5A-494D-4CB1-AC14-ED9831AA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D232-7230-4D85-AA3A-D80C088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9815-28D1-4F56-9456-E4B0653C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901F-3998-46A1-929F-25E64FB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0832-B7E4-40F0-95E2-F035721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4795-1436-4F61-AD32-3F1BCCF4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0357-D653-4B0E-9993-F1588BED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F0B4-F302-42E8-8BAD-8A5AC215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2DB5-F985-4764-8683-C2DD362D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F6D3-07B0-452C-BBD6-88F5D56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921-EAEE-4889-A574-6C9A3C67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F371-0096-4BB5-BD58-5087FCE8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2C42-A2A6-4E03-8C72-21C54771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B982B-408E-4B60-B304-3DB8E7B9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F24E-A90E-43FB-850F-F728735E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E180-9ADA-4FA7-B12C-49E6AF2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F028-4A22-4283-A4F2-36F8854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3038-F67C-416D-AD94-9A60268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30F7-7A97-4E4C-B456-0820201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7128-A442-424F-8213-CD848C82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CAC0-9845-4E89-92ED-4958F2F1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4DC-67C2-49EB-834A-415ABC8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C81D-30AB-4EE2-9377-1F4F8B1F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D3AC-802C-4D71-BA6C-B405C468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B37CB-4D36-4B28-930E-332A03F3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B4798-2DDA-40A0-82D8-5BA3B643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254A5-6412-47C8-8D45-7C43CA1F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2DE8-0202-47ED-A211-CD54548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E914B-1A43-4833-A73A-411AA130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32873-809E-49CA-9E01-FD8AF54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5F42F-5992-45E9-B1CB-BF1B9FAC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E5F1-F323-4A3E-968B-6132331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ABC-FFC6-470A-9E30-04DE287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4A4D-7330-414D-AF9A-0F3E8F7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8969-391A-4FF3-90FD-4B23673F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27CD-078C-4D8B-9839-F3621953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1BAC2-CAF0-4C02-8DF1-6F0F7CA1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D3AF5-75F1-44E4-8909-4BC4FC30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D379-592C-41BF-866F-48ABCB49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0F50-55F6-4BE9-8DDA-C165F3D1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C193-7F9D-4F77-8FB7-E781AC0C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A93D-E8FE-4EF3-810B-7155AC9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68FA-66D4-48A1-AD7F-C4501DC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9A1-6EF5-42DC-8A2C-55E603F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CAEC-D169-405D-B73E-2A0B4C9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FD94-B286-485A-8C73-BA160AB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8DB8-CDB0-4EEB-85AD-697F24BF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7CB5-A7E9-4693-B1EC-3A487235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1254-684D-4AE6-94BE-BB46F619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503-CFA7-43D8-AE8D-834D872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183-E000-4BA7-B1C3-4B4CF0DE53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6893-E543-4E24-ABA4-87AE15F260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4CB-516F-4862-A074-560D67B4A3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980-3120-431E-A3EF-920D5CF902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81C5-85D0-44AC-9A73-047B18B342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BED-CC69-45F8-B0BB-480F294247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7285-6D18-4D52-8650-B666942534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142640" y="928440"/>
            <a:ext cx="77914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ужно, чтобы дети, по возможности,  учились самостоятельно,  а  учитель руководил этим самостоятельным процессом и давал для него материал»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 Ушински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142640" y="142920"/>
            <a:ext cx="7791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ивность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цели и решение основной дидактической задачи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ая направленность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направленность вопросов, упражнений и задач, предлагаемых для выполнения школьника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ая работа школьников как форма организации учебной деятельност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ровень самостоятельности школьников при решении дидактической задачи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арактер самостоятельной учебной деятельности (репродуктивный, творческий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заимопомощ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ирование универсальных учебных действий на каждом этапе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познавательные, коммуникативные, регулятивны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142640" y="285480"/>
            <a:ext cx="7791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ирование ИКТ-компетентност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КТ на уроке, уровень сформированности ИКТ компетентности учащихс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уктура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структуры урока основной дидактической задач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ический стил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норм педагогической эти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гиенические требов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й режим, проветривание класса, чередование видов деятельности, динамические пауз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213920" y="428760"/>
            <a:ext cx="79297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посещения уроков: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учение практики управления процессом развития творческой и критической  мыслительной деятельности обучающихся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учение учета психологических особенностей </a:t>
            </a:r>
            <a:r>
              <a:rPr b="1" lang="tt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</a:t>
            </a:r>
            <a:r>
              <a:rPr b="1" lang="tt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хся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зучение путей повышения эффективности и качества </a:t>
            </a:r>
            <a:r>
              <a:rPr b="1" lang="tt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а.                     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зучение самостоятельной деятельности на уроке.                      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71360" y="571320"/>
            <a:ext cx="7862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ффективность деятельности педагогического работника по достижению образовательных результатов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рганизация урока педагогического работника по самоуправлению учебно-познавательной деятельностью обучающихся.                      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Изучение вопроса организации педагогическим работником эффективного процесса обучения в условиях введения ФГОС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071360" y="928440"/>
            <a:ext cx="78627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ок должен быть пронизан творчеством и вместе с тем оставаться уроком»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И. Гессен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143000" y="428760"/>
            <a:ext cx="78580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управления учебным процессом: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и контроль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28800" y="285840"/>
            <a:ext cx="8005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цели посещения урока, вида и формы контроля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граммы наблюдения урока, в соответствие с целью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учебно-методическими материалами, содержание которых соответствует цели посещения урока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учебной программой проверяемого предмета, с содержанием учебного материала по учебнику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записей в классном журнале о выполнении программы, в том числе ее практической части в дневниках учащихся, в их тетрадях, обратив внимание на отметки (их наполняемость, баллы и т.п.), на объем домашних задани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71360" y="285480"/>
            <a:ext cx="786276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и анализ выводов и предложений, сделанных учителю по ранее посещенному уроку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целесообразности приглашения на урок других учителе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(при необходимости) предварительной беседы с учителем, знакомство с его замыслом проведения урока, уточнение поурочного плана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- просмотр и проверка календарно-тематического план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142920"/>
            <a:ext cx="79344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организованный  урок  в хорошо оборудованном кабинете должен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ть хорошее начало и хорошее окончани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олжен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ланировать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ю деятельность и деятельность учащихся, четко сформулировать тему, цель, задачи уро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должен быть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м и развивающи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читель сам нацеливается на сотрудничество с учениками и умеет направлять учеников на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трудничество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ем и одноклассникам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рганизует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е и поисковые ситуаци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тивизирует деятельность учащихся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 делают сами учащиес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142640" y="214200"/>
            <a:ext cx="7791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м репродукции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аксимум творчества и сотворчества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ясбережение и здоровьесбережение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внимания урока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 де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ня и возможностей учащихс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учтены  такие аспекты, как профиль класса, стремление учащихся, настроение дете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монстрировать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ое искусство учител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ирование обратной связ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должен быть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547280" y="0"/>
            <a:ext cx="73868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компоненты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ременного ур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142920"/>
            <a:ext cx="74995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и с требованиями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го урока (согласно с ФГО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осещения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                                                                         Класс, учитель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щихся в классе:                                  Присутствовали на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                                                                  Тип урока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задача уро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 (образовательная, воспитательная, развивающая)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3920" y="356760"/>
            <a:ext cx="7929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ая задача урока (краткий оценочный анализ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ответствие дидактической задачи урока отобранному содержан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езультативность решения дидактической задач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уро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основного содержания урока содержанию программы и учебн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обу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иемов обучения и учения (методов обучения) решению триединой образовательной ц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обу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ответствие форм обучения (фронтальная, групповая, индивидуальная, коллективн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елесообразность использования предложенных зада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22:37:07Z</dcterms:created>
  <dc:creator>Admin</dc:creator>
  <dc:description/>
  <dc:language>en-US</dc:language>
  <cp:lastModifiedBy>Светлана</cp:lastModifiedBy>
  <dcterms:modified xsi:type="dcterms:W3CDTF">2014-04-09T11:39:13Z</dcterms:modified>
  <cp:revision>8</cp:revision>
  <dc:subject/>
  <dc:title>«Контроль  знаний требований  к современному уроку»</dc:title>
</cp:coreProperties>
</file>